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521400" y="8891640"/>
            <a:ext cx="469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0480" y="9074160"/>
            <a:ext cx="2732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5000"/>
                <a:tab algn="l" pos="500688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5000"/>
                <a:tab algn="l" pos="500688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158760" y="9088560"/>
            <a:ext cx="694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Num" idx="1"/>
          </p:nvPr>
        </p:nvSpPr>
        <p:spPr>
          <a:xfrm>
            <a:off x="6186240" y="8964360"/>
            <a:ext cx="849240" cy="2984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EDA7367-2016-4FA6-B5A4-E32A359DA6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942480" y="252360"/>
            <a:ext cx="5497560" cy="412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51840" bIns="518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6F4AEE4-C23D-48FD-B6ED-26B130DCB1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AD4FFCC-A906-43D7-974F-ECF49045266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229B2EF-67B7-43A2-9C51-5BAC694810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6DFAA33-3E81-4843-8D45-7950825872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1400" y="252360"/>
            <a:ext cx="5494320" cy="4121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01360" y="4521240"/>
            <a:ext cx="570708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934B80A-3684-431B-A8F6-C37C4A7837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1400" y="252360"/>
            <a:ext cx="5494320" cy="4121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01360" y="4521240"/>
            <a:ext cx="570708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0F45974-5BAA-445C-87BD-B9B6D4DC1CA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2A7713D-FF83-457C-8532-3647796A35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6186600" y="8964720"/>
            <a:ext cx="84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2162A7B-6900-4160-8815-D933209D5ED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2840" y="2523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22280" y="4521240"/>
            <a:ext cx="63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128A454-E396-4E31-9E1B-4B613F15BFB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8CCFFB7-81EE-4A8A-999C-6059BF63608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49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399680" y="1028880"/>
              <a:ext cx="190800" cy="2631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741240" y="1028880"/>
              <a:ext cx="190800" cy="2631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1166400" y="1028880"/>
              <a:ext cx="171720" cy="26316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609480" y="733680"/>
              <a:ext cx="61920" cy="12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8408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953640" y="528480"/>
              <a:ext cx="61920" cy="394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12824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298520" y="733680"/>
              <a:ext cx="66600" cy="12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47312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646280" y="528480"/>
              <a:ext cx="63360" cy="3945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1817280" y="646200"/>
              <a:ext cx="61920" cy="215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990800" y="733680"/>
              <a:ext cx="63360" cy="12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25" descr="MAE17639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35FD424-CFF5-40D1-BEA6-BE99324726C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isco_Logo_rgb_large2"/>
          <p:cNvPicPr/>
          <p:nvPr/>
        </p:nvPicPr>
        <p:blipFill>
          <a:blip r:embed="rId2"/>
          <a:stretch/>
        </p:blipFill>
        <p:spPr>
          <a:xfrm>
            <a:off x="2803680" y="2421000"/>
            <a:ext cx="352872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840" y="1727280"/>
            <a:ext cx="4235400" cy="25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FGW-1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F Gateway)</a:t>
            </a:r>
            <a:br>
              <a:rPr sz="2800"/>
            </a:br>
            <a:br>
              <a:rPr sz="28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ión General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0" y="142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Qué es RFGW-10?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3000" y="1392120"/>
            <a:ext cx="7940520" cy="493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FGW-10 es una plataforma Carrier Class Universal Edge QAM diseñada para soportar DOCSIS MCMTS y aplicaciones estándar de delivery por Vide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gual a los edge QAM tradicionales, el RFGW10 recibe tráfico DOCSIS/Video vía interface  Ethernet y convierte la señal digital DMPT/MPEG al MPEG analógico y realiza el streamer de la señal a los suscriptores.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FGW-10 es un modulador de borde que agrega múltiples fuentes de señal DADOS/VIDEO, procesándolas en una señal digital MPEG que va a ser distribuida a través de modulación QAM hasta los usuarios finales (cable modems y set-top box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vee soporte a varios estándares de video broadcast (Standard and High Definitio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gital Broadcast Television, Switched Digital Video (SDV), Video on Demand (VoD),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DOCSIS/Modular CMTS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s versiones iniciales del Cisco RFGW-10 fueron equipos de downstream.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(downstream del Cisco RFGW-10 para el cable modem o set-top box). 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RFGW-10 fue diseñado basado en la plataforma de switch Cisco Catalyst (CAT4K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80" y="186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RFGW-10 Características General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233000"/>
            <a:ext cx="7940880" cy="536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RU Carrier Class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” Rack-mou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36 watt pot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xo de Ar Front to Rear (frente-trá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 de RF Inte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eamento único (Wire Once) conectores tipo Coax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el Frontal L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mance do sistema &gt; 100Gb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quitectura Redund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dos os módulos principais  redundantes (Supervisor, Line Card, Power Supp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 RF integrado (Dual Zone Integrated RF Data Pat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o de comutação 500ms (Line Card failo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orte a alta disponibilidade  SW e H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ndancia de portas  GE / 10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SIS Timing Interface (DTI) Redund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stema dimensionado para operar com apenas uma fonte (Power Supp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es princip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Supervisor Card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Timing, Communication, and Control (TCC)/DTI Card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0) Universal Line Card Slots (N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2) RF Switch Card Slots (Dual Zone Redundanc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) DC PEM Module Slots (1:1 Redunda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437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) Fan Tray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0600" y="3286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GW Arquitectura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519120" y="1490760"/>
          <a:ext cx="79963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490760"/>
                    <a:ext cx="79963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Ciclo de vida de los paquetes:  </a:t>
            </a:r>
            <a:br>
              <a:rPr sz="3200"/>
            </a:br>
            <a:r>
              <a:rPr b="1" lang="es-MX" sz="3200" spc="-1" strike="noStrike">
                <a:solidFill>
                  <a:srgbClr val="0183b7"/>
                </a:solidFill>
                <a:latin typeface="Arial"/>
              </a:rPr>
              <a:t>Vista Data Plan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28520" y="2281320"/>
            <a:ext cx="7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25280" y="4971960"/>
            <a:ext cx="76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316080" y="1914480"/>
          <a:ext cx="870876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914480"/>
                    <a:ext cx="87087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000" y="2329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ssis - Vista Front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69" name="Object 8"/>
          <p:cNvGraphicFramePr/>
          <p:nvPr/>
        </p:nvGraphicFramePr>
        <p:xfrm>
          <a:off x="388800" y="1270080"/>
          <a:ext cx="818676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270080"/>
                    <a:ext cx="81867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ssis - Vista Posterio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530280" y="1414440"/>
          <a:ext cx="7213680" cy="53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4440"/>
                    <a:ext cx="721368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ista General - Chassis System Slo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328680" y="1968480"/>
          <a:ext cx="826776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68480"/>
                    <a:ext cx="82677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1:44:29Z</dcterms:created>
  <dc:creator>Bruce Kayajanian (brucek)</dc:creator>
  <dc:description/>
  <dc:language>en-US</dc:language>
  <cp:lastModifiedBy>hesouza</cp:lastModifiedBy>
  <cp:lastPrinted>1999-01-27T00:54:54Z</cp:lastPrinted>
  <dcterms:modified xsi:type="dcterms:W3CDTF">2011-12-01T17:49:19Z</dcterms:modified>
  <cp:revision>483</cp:revision>
  <dc:subject>Guide for Creating Powerpoint Presentations</dc:subject>
  <dc:title>PRESENTATION TITLE/SIZE 3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.DocumentId">
    <vt:lpwstr>wiw3uc57T0JJtGmMm0wybv</vt:lpwstr>
  </property>
  <property fmtid="{D5CDD505-2E9C-101B-9397-08002B2CF9AE}" pid="3" name="DV.MergeIncapabilityFlags">
    <vt:r8>0</vt:r8>
  </property>
  <property fmtid="{D5CDD505-2E9C-101B-9397-08002B2CF9AE}" pid="4" name="DV.VersionId">
    <vt:lpwstr>qPaYlqixzmYWD8vs8DQXaV</vt:lpwstr>
  </property>
</Properties>
</file>