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6521400" y="8891640"/>
            <a:ext cx="4698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60480" y="9074160"/>
            <a:ext cx="2732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5000"/>
                <a:tab algn="l" pos="500688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3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75000"/>
                <a:tab algn="l" pos="500688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sentation_ID.s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158760" y="9088560"/>
            <a:ext cx="694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Num" idx="1"/>
          </p:nvPr>
        </p:nvSpPr>
        <p:spPr>
          <a:xfrm>
            <a:off x="6186240" y="8964360"/>
            <a:ext cx="849240" cy="2984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79AD174-84A6-4BB1-8868-5383048DA95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942480" y="252360"/>
            <a:ext cx="5497560" cy="412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body"/>
          </p:nvPr>
        </p:nvSpPr>
        <p:spPr>
          <a:xfrm>
            <a:off x="422280" y="4521240"/>
            <a:ext cx="6386400" cy="4392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51840" bIns="518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1"/>
          <p:cNvSpPr/>
          <p:nvPr/>
        </p:nvSpPr>
        <p:spPr>
          <a:xfrm>
            <a:off x="6186600" y="8964720"/>
            <a:ext cx="849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556D964-0ED8-4B31-B2BF-16BE02DDE81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42840" y="252360"/>
            <a:ext cx="5497560" cy="41227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22280" y="4521240"/>
            <a:ext cx="63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1"/>
          <p:cNvSpPr/>
          <p:nvPr/>
        </p:nvSpPr>
        <p:spPr>
          <a:xfrm>
            <a:off x="6186600" y="8964720"/>
            <a:ext cx="849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35474CA-4CBF-4A75-A35D-971F80F0FB4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42840" y="252360"/>
            <a:ext cx="5497560" cy="41227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22280" y="4521240"/>
            <a:ext cx="63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1"/>
          <p:cNvSpPr/>
          <p:nvPr/>
        </p:nvSpPr>
        <p:spPr>
          <a:xfrm>
            <a:off x="6186600" y="8964720"/>
            <a:ext cx="849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09C734E-8C36-4367-BB60-360B0608D46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42840" y="252360"/>
            <a:ext cx="5497560" cy="41227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22280" y="4521240"/>
            <a:ext cx="63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1"/>
          <p:cNvSpPr/>
          <p:nvPr/>
        </p:nvSpPr>
        <p:spPr>
          <a:xfrm>
            <a:off x="6186600" y="8964720"/>
            <a:ext cx="849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BD535D8-31E2-4E97-A50F-21AA6AF0772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41400" y="252360"/>
            <a:ext cx="5494320" cy="4121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01360" y="4521240"/>
            <a:ext cx="570708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1"/>
          <p:cNvSpPr/>
          <p:nvPr/>
        </p:nvSpPr>
        <p:spPr>
          <a:xfrm>
            <a:off x="6186600" y="8964720"/>
            <a:ext cx="849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4FBACC9-F6AF-4B48-8580-CAA995267DC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41400" y="252360"/>
            <a:ext cx="5494320" cy="4121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01360" y="4521240"/>
            <a:ext cx="570708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1"/>
          <p:cNvSpPr/>
          <p:nvPr/>
        </p:nvSpPr>
        <p:spPr>
          <a:xfrm>
            <a:off x="6186600" y="8964720"/>
            <a:ext cx="849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35EF726-DE94-4D23-8528-3F0CD2E08EE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42840" y="252360"/>
            <a:ext cx="5497560" cy="41227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22280" y="4521240"/>
            <a:ext cx="63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1"/>
          <p:cNvSpPr/>
          <p:nvPr/>
        </p:nvSpPr>
        <p:spPr>
          <a:xfrm>
            <a:off x="6186600" y="8964720"/>
            <a:ext cx="849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71C686E-1ADD-46DC-A28C-0FF9C7FC837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42840" y="252360"/>
            <a:ext cx="5497560" cy="41227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22280" y="4521240"/>
            <a:ext cx="63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1"/>
          <p:cNvSpPr/>
          <p:nvPr/>
        </p:nvSpPr>
        <p:spPr>
          <a:xfrm>
            <a:off x="6186600" y="8964720"/>
            <a:ext cx="849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0C03895-4559-40D6-A2A3-47C83FC8AE4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42840" y="252360"/>
            <a:ext cx="5497560" cy="41227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22280" y="4521240"/>
            <a:ext cx="63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3049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55200" y="3049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4044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532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5556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4044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532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3049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18BCDBA-67D6-4958-B802-0DF54A266105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 rot="16200000">
            <a:off x="3200400" y="-160020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E47FF7F-2D99-41EB-979F-75813480AA9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49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1015560" y="1035000"/>
              <a:ext cx="66240" cy="25020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1399680" y="1028880"/>
              <a:ext cx="190800" cy="2631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741240" y="1028880"/>
              <a:ext cx="190800" cy="2631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1166400" y="1028880"/>
              <a:ext cx="171720" cy="26316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609480" y="733680"/>
              <a:ext cx="61920" cy="128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784080" y="646200"/>
              <a:ext cx="61920" cy="2156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953640" y="528480"/>
              <a:ext cx="61920" cy="3945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1128240" y="646200"/>
              <a:ext cx="61920" cy="2156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1298520" y="733680"/>
              <a:ext cx="66600" cy="1281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1473120" y="646200"/>
              <a:ext cx="61920" cy="2156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>
              <a:off x="1646280" y="528480"/>
              <a:ext cx="63360" cy="3945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1"/>
            <p:cNvSpPr/>
            <p:nvPr/>
          </p:nvSpPr>
          <p:spPr>
            <a:xfrm>
              <a:off x="1817280" y="646200"/>
              <a:ext cx="61920" cy="2156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>
              <a:off x="1990800" y="733680"/>
              <a:ext cx="63360" cy="128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Picture 25" descr="MAE17639"/>
          <p:cNvPicPr/>
          <p:nvPr/>
        </p:nvPicPr>
        <p:blipFill>
          <a:blip r:embed="rId2"/>
          <a:stretch/>
        </p:blipFill>
        <p:spPr>
          <a:xfrm>
            <a:off x="4573440" y="1600200"/>
            <a:ext cx="4570560" cy="2743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D6F23F2-113C-4E3A-99EA-246238EE8D5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Cisco_Logo_rgb_large2"/>
          <p:cNvPicPr/>
          <p:nvPr/>
        </p:nvPicPr>
        <p:blipFill>
          <a:blip r:embed="rId2"/>
          <a:stretch/>
        </p:blipFill>
        <p:spPr>
          <a:xfrm>
            <a:off x="2803680" y="2421000"/>
            <a:ext cx="3528720" cy="18572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6840" y="1727280"/>
            <a:ext cx="4235400" cy="25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FGW-1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F Gateway)</a:t>
            </a:r>
            <a:br>
              <a:rPr sz="2800"/>
            </a:br>
            <a:br>
              <a:rPr sz="28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sión General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000" y="142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Qué es RFGW-10?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3000" y="1392120"/>
            <a:ext cx="7940520" cy="4935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10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FGW-10 es una plataforma Carrier Class Universal Edge QAM diseñada para soportar DOCSIS MCMTS y aplicaciones estándar de delivery por Vide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100000"/>
              </a:lnSpc>
              <a:spcBef>
                <a:spcPts val="612"/>
              </a:spcBef>
              <a:buClr>
                <a:srgbClr val="0183b7"/>
              </a:buClr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gual a los edge QAM tradicionales, el RFGW10 recibe tráfico DOCSIS/Video vía interface  Ethernet y convierte la señal digital DMPT/MPEG al MPEG analógico y realiza el streamer de la señal a los suscriptores.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FGW-10 es un modulador de borde que agrega múltiples fuentes de señal DADOS/VIDEO, procesándolas en una señal digital MPEG que va a ser distribuida a través de modulación QAM hasta los usuarios finales (cable modems y set-top boxe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100000"/>
              </a:lnSpc>
              <a:spcBef>
                <a:spcPts val="612"/>
              </a:spcBef>
              <a:buClr>
                <a:srgbClr val="0183b7"/>
              </a:buClr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vee soporte a varios estándares de video broadcast (Standard and High Definition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gital Broadcast Television, Switched Digital Video (SDV), Video on Demand (VoD),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y DOCSIS/Modular CMTS service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100000"/>
              </a:lnSpc>
              <a:spcBef>
                <a:spcPts val="612"/>
              </a:spcBef>
              <a:buClr>
                <a:srgbClr val="0183b7"/>
              </a:buClr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as versiones iniciales del Cisco RFGW-10 fueron equipos de downstream.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 (downstream del Cisco RFGW-10 para el cable modem o set-top box). 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l RFGW-10 fue diseñado basado en la plataforma de switch Cisco Catalyst (CAT4K)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7080" y="18684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MX" sz="3200" spc="-1" strike="noStrike">
                <a:solidFill>
                  <a:srgbClr val="0183b7"/>
                </a:solidFill>
                <a:latin typeface="Arial"/>
              </a:rPr>
              <a:t>RFGW-10 Características General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233000"/>
            <a:ext cx="7940880" cy="536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RU Carrier Class Chas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” Rack-mou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36 watt pot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uxo de Ar Front to Rear (frente-trá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 de RF Inte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beamento único (Wire Once) conectores tipo Coaxi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inel Frontal LC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fomance do sistema &gt; 100Gb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quitectura Redund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dos os módulos principais  redundantes (Supervisor, Line Card, Power Supp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 RF integrado (Dual Zone Integrated RF Data Pat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o de comutação 500ms (Line Card failov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orte a alta disponibilidade  SW e H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undancia de portas  GE / 10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SIS Timing Interface (DTI) Redunda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stema dimensionado para operar com apenas uma fonte (Power Supp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es princip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) Supervisor Card Slots (1:1 Redundan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) Timing, Communication, and Control (TCC)/DTI Card Slots (1:1 Redundan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0) Universal Line Card Slots (N:1 Redundan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2) RF Switch Card Slots (Dual Zone Redundanc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) DC PEM Module Slots (1:1 Redundan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) Fan Tray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0600" y="3286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RFGW Arquitectura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519120" y="1490760"/>
          <a:ext cx="799632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1490760"/>
                    <a:ext cx="79963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MX" sz="3200" spc="-1" strike="noStrike">
                <a:solidFill>
                  <a:srgbClr val="0183b7"/>
                </a:solidFill>
                <a:latin typeface="Arial"/>
              </a:rPr>
              <a:t>Ciclo de vida de los paquetes:  </a:t>
            </a:r>
            <a:br>
              <a:rPr sz="3200"/>
            </a:br>
            <a:r>
              <a:rPr b="1" lang="es-MX" sz="3200" spc="-1" strike="noStrike">
                <a:solidFill>
                  <a:srgbClr val="0183b7"/>
                </a:solidFill>
                <a:latin typeface="Arial"/>
              </a:rPr>
              <a:t>Vista Data Plan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28520" y="2281320"/>
            <a:ext cx="7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25280" y="4971960"/>
            <a:ext cx="76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316080" y="1914480"/>
          <a:ext cx="8708760" cy="37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080" y="1914480"/>
                    <a:ext cx="87087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000" y="23292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hassis - Vista Frontal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aphicFrame>
        <p:nvGraphicFramePr>
          <p:cNvPr id="169" name="Object 8"/>
          <p:cNvGraphicFramePr/>
          <p:nvPr/>
        </p:nvGraphicFramePr>
        <p:xfrm>
          <a:off x="388800" y="1270080"/>
          <a:ext cx="8186760" cy="545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1270080"/>
                    <a:ext cx="81867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hassis - Vista Posterior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530280" y="1414440"/>
          <a:ext cx="7213680" cy="533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414440"/>
                    <a:ext cx="7213680" cy="53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Vista General - Chassis System Slo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aphicFrame>
        <p:nvGraphicFramePr>
          <p:cNvPr id="175" name="Object 6"/>
          <p:cNvGraphicFramePr/>
          <p:nvPr/>
        </p:nvGraphicFramePr>
        <p:xfrm>
          <a:off x="328680" y="1968480"/>
          <a:ext cx="8267760" cy="42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968480"/>
                    <a:ext cx="826776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1:44:29Z</dcterms:created>
  <dc:creator>Bruce Kayajanian (brucek)</dc:creator>
  <dc:description/>
  <dc:language>en-US</dc:language>
  <cp:lastModifiedBy>hesouza</cp:lastModifiedBy>
  <cp:lastPrinted>1999-01-27T00:54:54Z</cp:lastPrinted>
  <dcterms:modified xsi:type="dcterms:W3CDTF">2011-12-01T17:49:19Z</dcterms:modified>
  <cp:revision>483</cp:revision>
  <dc:subject>Guide for Creating Powerpoint Presentations</dc:subject>
  <dc:title>PRESENTATION TITLE/SIZE 3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V.DocumentId">
    <vt:lpwstr>wiw3uc57T0JJtGmMm0wybv</vt:lpwstr>
  </property>
  <property fmtid="{D5CDD505-2E9C-101B-9397-08002B2CF9AE}" pid="3" name="DV.MergeIncapabilityFlags">
    <vt:r8>0</vt:r8>
  </property>
  <property fmtid="{D5CDD505-2E9C-101B-9397-08002B2CF9AE}" pid="4" name="DV.VersionId">
    <vt:lpwstr>qPaYlqixzmYWD8vs8DQXaV</vt:lpwstr>
  </property>
</Properties>
</file>